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8803-11FC-4649-8509-741E08D62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vsd.org/university/classpage/jgriffith/pages/Bio%20Crimson%20items/%20Energetics/energetic%20ws'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chthyosapiens.com/School/BIO181/Quizzes/Photosynthesis/Photosynthe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vcc.edu/depts/biology/HotPot/Biol%201406/Calvin-Bens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n interactive website…you can test yourself and check you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D6B-7ED8-4901-8E53-C8C886DD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FCA-9582-4382-8791-E07C7DF4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737-54D5-450A-B292-15D61FBB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A54-EDBE-49AF-802B-B472E672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5AF-C23C-4EF8-9B7A-578BC7AE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B5A-74BA-4EFB-917D-1133440E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779-E457-4481-BD67-C8D4E31B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4E2-48ED-4154-A3BF-801555B7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6FB-A859-46B6-898E-C5F027A3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5B6-63AA-4EA9-A20F-C84B1893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6E9-D480-4DAD-BBD4-BFC65F9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3C0-F503-450E-A426-52E5A1FC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046E-A7B0-478C-A934-BBE4E060B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vcc.edu/depts/biology/HotPot/Biol%201406/Calvin-Benso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bwbiology.net/quizzes/ch10-photosynthesis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goes in?  Comes 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33400" y="1981080"/>
            <a:ext cx="567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06480" y="1981080"/>
            <a:ext cx="55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label th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the blanks online:</a:t>
            </a:r>
            <a:br>
              <a:rPr sz="2200"/>
            </a:b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vcc.edu/depts/biology/HotPot/Biol%201406/Calvin-Benson.h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031840" y="1523880"/>
            <a:ext cx="5230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try this quiz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great 19-question multiple choice quiz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bwbiology.net/quizzes/ch10-photosynthe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22:40:46Z</dcterms:created>
  <dc:creator>rubina khan</dc:creator>
  <dc:description/>
  <dc:language>en-US</dc:language>
  <cp:lastModifiedBy>rubina khan</cp:lastModifiedBy>
  <dcterms:modified xsi:type="dcterms:W3CDTF">2013-04-05T13:43:10Z</dcterms:modified>
  <cp:revision>10</cp:revision>
  <dc:subject/>
  <dc:title>PowerPoint Presentation</dc:title>
</cp:coreProperties>
</file>